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0080625" cy="755967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D02-5415-4E8D-ACFA-4CD47824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C6E-BE26-4EAB-97A1-91595F7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25F-1BAA-49B1-8DB2-24C84B7B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033-884A-4211-8D34-DC9A253A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8DA7-3B35-4260-8BD0-5747D9BA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363-DF14-4891-A618-8F28FE9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0B5-869A-4F7D-BE35-885F026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0DE2-2B62-4793-B41E-DB15EC43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917-4E4D-4AD7-83EA-4998B15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BE4B-0D7A-4A2D-9853-F2CEE8E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FEC6-6CD9-42DC-A7C5-B9387946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211-5411-44E8-8590-3F6B6F78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2212-909E-4487-9853-2B1A70E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BFB7-60AE-444A-98C0-B771466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A3BE-2E0E-4E1D-B93B-59B25074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00D6-8182-4222-A335-B592FA1A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C39-38D5-4D96-8AEC-BB6ABA1A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60483-7C4F-428E-9232-BD42F383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97C50-7D55-4E69-82E2-52E0740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BFC94-C3BA-4660-87B8-FB0DAF87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CE675-E069-4934-A4FB-91D5E1E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C473A-0058-4044-A59D-21FF6442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B80-651E-4FC0-BD57-8DCC79E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ABB77-5892-4187-BF2D-F86553E0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9B78C-17F0-43DB-8C03-B30C740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541B6-6F54-42EC-9828-1F2770E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939D8-FF89-47AA-B4C4-8B783D9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0BFBD-E365-48DA-955F-77587BF5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1309F-EB37-4045-8EC4-2E7E447A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56E57-C827-4D92-9D0D-1C4B8BA6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43F1-29E6-4A7F-99CC-E812C8CF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5AC4-854B-45D1-A2DF-3697D731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3998-B606-4AF2-8692-3BDFF59E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7A1-514C-4B7D-8603-CEAB941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8781-7B39-4496-8915-3274151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0D5C-34D6-4A30-BD7B-7EA80210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1D4B-BA40-4342-8623-FDF3E00C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5CE1-1B51-4D35-998E-AC4B483C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CA5D-CFBB-4D8D-8CB9-885E637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CC76-E389-464D-B4AA-0267D04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E462-0476-47F3-8B9F-E6723CF6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11C4-06E9-42C4-B265-E214C6E5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2526-AB97-45A2-860F-D53FC8F5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3CF-FA47-4DFC-BFCF-D083D2A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AD9-284A-4D5E-97F5-5E9F57AD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345-D1A3-4FF2-BDD2-E5D7897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451-7F80-49E3-87D2-984B0CA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1FA-53D7-40EA-9737-90F6A0C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A0AC0-478D-4315-B8F0-6B59BFCB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2B353-C5C3-49DA-8093-A387BB48572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113760" y="1441440"/>
            <a:ext cx="10307520" cy="6210720"/>
            <a:chOff x="-113760" y="1441440"/>
            <a:chExt cx="10307520" cy="6210720"/>
          </a:xfrm>
        </p:grpSpPr>
        <p:sp>
          <p:nvSpPr>
            <p:cNvPr id="83" name="Rectangle 3"/>
            <p:cNvSpPr/>
            <p:nvPr/>
          </p:nvSpPr>
          <p:spPr>
            <a:xfrm flipV="1" rot="20798400">
              <a:off x="-24480" y="180720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 flipV="1" rot="20774400">
              <a:off x="-41760" y="197136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flipV="1" rot="20757600">
              <a:off x="-46800" y="209592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 flipV="1" rot="20684400">
              <a:off x="-74880" y="2244960"/>
              <a:ext cx="4331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flipV="1" rot="20631600">
              <a:off x="-88560" y="2444400"/>
              <a:ext cx="48474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flipV="1" rot="20554800">
              <a:off x="-113400" y="2665440"/>
              <a:ext cx="53550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V="1" rot="20466600">
              <a:off x="-162360" y="2964960"/>
              <a:ext cx="59536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flipV="1" rot="20343600">
              <a:off x="-172800" y="3260520"/>
              <a:ext cx="65606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flipV="1" rot="20211600">
              <a:off x="-288360" y="3592800"/>
              <a:ext cx="7365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 flipV="1" rot="20103000">
              <a:off x="-374400" y="4006440"/>
              <a:ext cx="80730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 flipV="1" rot="19923600">
              <a:off x="-547200" y="4580280"/>
              <a:ext cx="91000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 flipV="1" rot="19686600">
              <a:off x="15480" y="5042880"/>
              <a:ext cx="945180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 flipV="1" rot="19383600">
              <a:off x="2307600" y="5125680"/>
              <a:ext cx="80730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 flipV="1" rot="18994200">
              <a:off x="4691160" y="5376240"/>
              <a:ext cx="62582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 flipV="1" rot="18603600">
              <a:off x="7090560" y="6127920"/>
              <a:ext cx="36406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 flipH="1" flipV="1" rot="18391200">
              <a:off x="9394920" y="729108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 rot="1058400">
              <a:off x="-255240" y="4131360"/>
              <a:ext cx="105807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 rot="1563600">
              <a:off x="-345960" y="5945760"/>
              <a:ext cx="724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 rot="1732800">
              <a:off x="-288720" y="634536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 rot="1968600">
              <a:off x="-192240" y="686700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 rot="1386000">
              <a:off x="-377640" y="5639400"/>
              <a:ext cx="95853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 rot="983400">
              <a:off x="-200520" y="3726720"/>
              <a:ext cx="105318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 flipV="1" rot="930600">
              <a:off x="139680" y="3404880"/>
              <a:ext cx="10073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 rot="867600">
              <a:off x="654120" y="3153960"/>
              <a:ext cx="9581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 rot="775200">
              <a:off x="1483920" y="2768760"/>
              <a:ext cx="87084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 rot="735000">
              <a:off x="1842480" y="258300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 rot="692400">
              <a:off x="2176920" y="2409120"/>
              <a:ext cx="7974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 flipV="1" rot="655800">
              <a:off x="2602080" y="228276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 flipV="1" rot="637200">
              <a:off x="2887200" y="2131200"/>
              <a:ext cx="726948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 flipV="1" rot="804000">
              <a:off x="1068840" y="2947320"/>
              <a:ext cx="910764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 flipV="1" rot="1273800">
              <a:off x="-356760" y="5209200"/>
              <a:ext cx="107629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 flipV="1" rot="1170000">
              <a:off x="-303840" y="4661280"/>
              <a:ext cx="106855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1294920" y="58809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412920" y="53816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278280" y="6394320"/>
              <a:ext cx="342720" cy="185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3634920" y="46584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140200" y="538524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>
              <a:off x="2950560" y="50022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>
              <a:off x="1312200" y="497016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2"/>
            <p:cNvSpPr/>
            <p:nvPr/>
          </p:nvSpPr>
          <p:spPr>
            <a:xfrm>
              <a:off x="642240" y="4649760"/>
              <a:ext cx="26244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3"/>
            <p:cNvSpPr/>
            <p:nvPr/>
          </p:nvSpPr>
          <p:spPr>
            <a:xfrm>
              <a:off x="2050920" y="4624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4"/>
            <p:cNvSpPr/>
            <p:nvPr/>
          </p:nvSpPr>
          <p:spPr>
            <a:xfrm>
              <a:off x="4201920" y="43502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5"/>
            <p:cNvSpPr/>
            <p:nvPr/>
          </p:nvSpPr>
          <p:spPr>
            <a:xfrm>
              <a:off x="3342600" y="405072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6"/>
            <p:cNvSpPr/>
            <p:nvPr/>
          </p:nvSpPr>
          <p:spPr>
            <a:xfrm>
              <a:off x="3944880" y="377064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7"/>
            <p:cNvSpPr/>
            <p:nvPr/>
          </p:nvSpPr>
          <p:spPr>
            <a:xfrm>
              <a:off x="4798440" y="4034880"/>
              <a:ext cx="245160" cy="126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8"/>
            <p:cNvSpPr/>
            <p:nvPr/>
          </p:nvSpPr>
          <p:spPr>
            <a:xfrm>
              <a:off x="4921200" y="332244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9"/>
            <p:cNvSpPr/>
            <p:nvPr/>
          </p:nvSpPr>
          <p:spPr>
            <a:xfrm>
              <a:off x="6512040" y="31363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0"/>
            <p:cNvSpPr/>
            <p:nvPr/>
          </p:nvSpPr>
          <p:spPr>
            <a:xfrm>
              <a:off x="6174360" y="331884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1"/>
            <p:cNvSpPr/>
            <p:nvPr/>
          </p:nvSpPr>
          <p:spPr>
            <a:xfrm>
              <a:off x="5361840" y="3111840"/>
              <a:ext cx="223920" cy="108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2"/>
            <p:cNvSpPr/>
            <p:nvPr/>
          </p:nvSpPr>
          <p:spPr>
            <a:xfrm>
              <a:off x="5735160" y="35427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3"/>
            <p:cNvSpPr/>
            <p:nvPr/>
          </p:nvSpPr>
          <p:spPr>
            <a:xfrm>
              <a:off x="5297400" y="3781080"/>
              <a:ext cx="232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4"/>
            <p:cNvSpPr/>
            <p:nvPr/>
          </p:nvSpPr>
          <p:spPr>
            <a:xfrm>
              <a:off x="2745720" y="42940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>
              <a:off x="3260160" y="354996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>
              <a:off x="2647800" y="3807360"/>
              <a:ext cx="2430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>
              <a:off x="2084400" y="404568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>
              <a:off x="2019600" y="35834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9"/>
            <p:cNvSpPr/>
            <p:nvPr/>
          </p:nvSpPr>
          <p:spPr>
            <a:xfrm>
              <a:off x="1998720" y="3155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0"/>
            <p:cNvSpPr/>
            <p:nvPr/>
          </p:nvSpPr>
          <p:spPr>
            <a:xfrm>
              <a:off x="2625120" y="3346560"/>
              <a:ext cx="22356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1"/>
            <p:cNvSpPr/>
            <p:nvPr/>
          </p:nvSpPr>
          <p:spPr>
            <a:xfrm>
              <a:off x="3156840" y="31521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2"/>
            <p:cNvSpPr/>
            <p:nvPr/>
          </p:nvSpPr>
          <p:spPr>
            <a:xfrm>
              <a:off x="3778560" y="3334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3"/>
            <p:cNvSpPr/>
            <p:nvPr/>
          </p:nvSpPr>
          <p:spPr>
            <a:xfrm>
              <a:off x="4255920" y="31276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4"/>
            <p:cNvSpPr/>
            <p:nvPr/>
          </p:nvSpPr>
          <p:spPr>
            <a:xfrm>
              <a:off x="822600" y="3557160"/>
              <a:ext cx="2340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119160" y="379152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6"/>
            <p:cNvSpPr/>
            <p:nvPr/>
          </p:nvSpPr>
          <p:spPr>
            <a:xfrm>
              <a:off x="1396440" y="3353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7"/>
            <p:cNvSpPr/>
            <p:nvPr/>
          </p:nvSpPr>
          <p:spPr>
            <a:xfrm>
              <a:off x="795960" y="31453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8"/>
            <p:cNvSpPr/>
            <p:nvPr/>
          </p:nvSpPr>
          <p:spPr>
            <a:xfrm>
              <a:off x="197640" y="33274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9"/>
            <p:cNvSpPr/>
            <p:nvPr/>
          </p:nvSpPr>
          <p:spPr>
            <a:xfrm>
              <a:off x="756000" y="4066560"/>
              <a:ext cx="2484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0"/>
            <p:cNvSpPr/>
            <p:nvPr/>
          </p:nvSpPr>
          <p:spPr>
            <a:xfrm>
              <a:off x="1424520" y="381240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1"/>
            <p:cNvSpPr/>
            <p:nvPr/>
          </p:nvSpPr>
          <p:spPr>
            <a:xfrm>
              <a:off x="1380600" y="432756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72"/>
            <p:cNvSpPr/>
            <p:nvPr/>
          </p:nvSpPr>
          <p:spPr>
            <a:xfrm>
              <a:off x="4452120" y="352728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3"/>
            <p:cNvSpPr/>
            <p:nvPr/>
          </p:nvSpPr>
          <p:spPr>
            <a:xfrm>
              <a:off x="2549880" y="297576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4"/>
            <p:cNvSpPr/>
            <p:nvPr/>
          </p:nvSpPr>
          <p:spPr>
            <a:xfrm>
              <a:off x="3057480" y="279828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5"/>
            <p:cNvSpPr/>
            <p:nvPr/>
          </p:nvSpPr>
          <p:spPr>
            <a:xfrm>
              <a:off x="2423520" y="263556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6"/>
            <p:cNvSpPr/>
            <p:nvPr/>
          </p:nvSpPr>
          <p:spPr>
            <a:xfrm>
              <a:off x="1912680" y="279180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7"/>
            <p:cNvSpPr/>
            <p:nvPr/>
          </p:nvSpPr>
          <p:spPr>
            <a:xfrm>
              <a:off x="1386360" y="29577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8"/>
            <p:cNvSpPr/>
            <p:nvPr/>
          </p:nvSpPr>
          <p:spPr>
            <a:xfrm>
              <a:off x="3519360" y="264636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9"/>
            <p:cNvSpPr/>
            <p:nvPr/>
          </p:nvSpPr>
          <p:spPr>
            <a:xfrm>
              <a:off x="3652200" y="29685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0"/>
            <p:cNvSpPr/>
            <p:nvPr/>
          </p:nvSpPr>
          <p:spPr>
            <a:xfrm>
              <a:off x="4104000" y="28018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81"/>
            <p:cNvSpPr/>
            <p:nvPr/>
          </p:nvSpPr>
          <p:spPr>
            <a:xfrm>
              <a:off x="4697280" y="29509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2"/>
            <p:cNvSpPr/>
            <p:nvPr/>
          </p:nvSpPr>
          <p:spPr>
            <a:xfrm>
              <a:off x="1410480" y="26463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866160" y="27950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398880" y="26391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85"/>
            <p:cNvSpPr/>
            <p:nvPr/>
          </p:nvSpPr>
          <p:spPr>
            <a:xfrm>
              <a:off x="274680" y="2972160"/>
              <a:ext cx="2152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5052600" y="279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5388480" y="2644200"/>
              <a:ext cx="21636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5722920" y="2954520"/>
              <a:ext cx="2170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9"/>
            <p:cNvSpPr/>
            <p:nvPr/>
          </p:nvSpPr>
          <p:spPr>
            <a:xfrm>
              <a:off x="6042960" y="279828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90"/>
            <p:cNvSpPr/>
            <p:nvPr/>
          </p:nvSpPr>
          <p:spPr>
            <a:xfrm>
              <a:off x="6389640" y="263556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91"/>
            <p:cNvSpPr/>
            <p:nvPr/>
          </p:nvSpPr>
          <p:spPr>
            <a:xfrm>
              <a:off x="7439760" y="264780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92"/>
            <p:cNvSpPr/>
            <p:nvPr/>
          </p:nvSpPr>
          <p:spPr>
            <a:xfrm>
              <a:off x="6826680" y="29772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93"/>
            <p:cNvSpPr/>
            <p:nvPr/>
          </p:nvSpPr>
          <p:spPr>
            <a:xfrm>
              <a:off x="7150680" y="28144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4"/>
            <p:cNvSpPr/>
            <p:nvPr/>
          </p:nvSpPr>
          <p:spPr>
            <a:xfrm>
              <a:off x="2243520" y="639612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5"/>
            <p:cNvSpPr/>
            <p:nvPr/>
          </p:nvSpPr>
          <p:spPr>
            <a:xfrm>
              <a:off x="1237320" y="7028640"/>
              <a:ext cx="33408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6"/>
            <p:cNvSpPr/>
            <p:nvPr/>
          </p:nvSpPr>
          <p:spPr>
            <a:xfrm>
              <a:off x="3900600" y="541008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7"/>
            <p:cNvSpPr/>
            <p:nvPr/>
          </p:nvSpPr>
          <p:spPr>
            <a:xfrm>
              <a:off x="4557240" y="50194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8"/>
            <p:cNvSpPr/>
            <p:nvPr/>
          </p:nvSpPr>
          <p:spPr>
            <a:xfrm>
              <a:off x="5087520" y="4670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9"/>
            <p:cNvSpPr/>
            <p:nvPr/>
          </p:nvSpPr>
          <p:spPr>
            <a:xfrm>
              <a:off x="5684400" y="42958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00"/>
            <p:cNvSpPr/>
            <p:nvPr/>
          </p:nvSpPr>
          <p:spPr>
            <a:xfrm>
              <a:off x="3151800" y="588312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1"/>
            <p:cNvSpPr/>
            <p:nvPr/>
          </p:nvSpPr>
          <p:spPr>
            <a:xfrm>
              <a:off x="6146280" y="402984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02"/>
            <p:cNvSpPr/>
            <p:nvPr/>
          </p:nvSpPr>
          <p:spPr>
            <a:xfrm>
              <a:off x="6965280" y="3525120"/>
              <a:ext cx="2307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03"/>
            <p:cNvSpPr/>
            <p:nvPr/>
          </p:nvSpPr>
          <p:spPr>
            <a:xfrm>
              <a:off x="6568200" y="377748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04"/>
            <p:cNvSpPr/>
            <p:nvPr/>
          </p:nvSpPr>
          <p:spPr>
            <a:xfrm>
              <a:off x="7308360" y="33224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5"/>
            <p:cNvSpPr/>
            <p:nvPr/>
          </p:nvSpPr>
          <p:spPr>
            <a:xfrm>
              <a:off x="7591680" y="314532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06"/>
            <p:cNvSpPr/>
            <p:nvPr/>
          </p:nvSpPr>
          <p:spPr>
            <a:xfrm>
              <a:off x="7884000" y="2975760"/>
              <a:ext cx="213480" cy="88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07"/>
            <p:cNvSpPr/>
            <p:nvPr/>
          </p:nvSpPr>
          <p:spPr>
            <a:xfrm>
              <a:off x="8157240" y="28054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08"/>
            <p:cNvSpPr/>
            <p:nvPr/>
          </p:nvSpPr>
          <p:spPr>
            <a:xfrm>
              <a:off x="8405640" y="2646360"/>
              <a:ext cx="22356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9"/>
            <p:cNvSpPr/>
            <p:nvPr/>
          </p:nvSpPr>
          <p:spPr>
            <a:xfrm>
              <a:off x="8627760" y="250416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0"/>
            <p:cNvSpPr/>
            <p:nvPr/>
          </p:nvSpPr>
          <p:spPr>
            <a:xfrm>
              <a:off x="671148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1"/>
            <p:cNvSpPr/>
            <p:nvPr/>
          </p:nvSpPr>
          <p:spPr>
            <a:xfrm>
              <a:off x="575064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12"/>
            <p:cNvSpPr/>
            <p:nvPr/>
          </p:nvSpPr>
          <p:spPr>
            <a:xfrm>
              <a:off x="5201280" y="239040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3"/>
            <p:cNvSpPr/>
            <p:nvPr/>
          </p:nvSpPr>
          <p:spPr>
            <a:xfrm>
              <a:off x="5515920" y="226080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4"/>
            <p:cNvSpPr/>
            <p:nvPr/>
          </p:nvSpPr>
          <p:spPr>
            <a:xfrm>
              <a:off x="5285160" y="204696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4275360" y="239400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16"/>
            <p:cNvSpPr/>
            <p:nvPr/>
          </p:nvSpPr>
          <p:spPr>
            <a:xfrm>
              <a:off x="4026960" y="213480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17"/>
            <p:cNvSpPr/>
            <p:nvPr/>
          </p:nvSpPr>
          <p:spPr>
            <a:xfrm>
              <a:off x="3666240" y="22467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8"/>
            <p:cNvSpPr/>
            <p:nvPr/>
          </p:nvSpPr>
          <p:spPr>
            <a:xfrm>
              <a:off x="3899160" y="252360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19"/>
            <p:cNvSpPr/>
            <p:nvPr/>
          </p:nvSpPr>
          <p:spPr>
            <a:xfrm>
              <a:off x="1940760" y="249192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20"/>
            <p:cNvSpPr/>
            <p:nvPr/>
          </p:nvSpPr>
          <p:spPr>
            <a:xfrm>
              <a:off x="1069200" y="224676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21"/>
            <p:cNvSpPr/>
            <p:nvPr/>
          </p:nvSpPr>
          <p:spPr>
            <a:xfrm>
              <a:off x="533880" y="23763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2"/>
            <p:cNvSpPr/>
            <p:nvPr/>
          </p:nvSpPr>
          <p:spPr>
            <a:xfrm>
              <a:off x="272880" y="201924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3"/>
            <p:cNvSpPr/>
            <p:nvPr/>
          </p:nvSpPr>
          <p:spPr>
            <a:xfrm>
              <a:off x="7941600" y="238860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24"/>
            <p:cNvSpPr/>
            <p:nvPr/>
          </p:nvSpPr>
          <p:spPr>
            <a:xfrm>
              <a:off x="7712640" y="2520000"/>
              <a:ext cx="1836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5"/>
            <p:cNvSpPr/>
            <p:nvPr/>
          </p:nvSpPr>
          <p:spPr>
            <a:xfrm>
              <a:off x="6986520" y="237312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26"/>
            <p:cNvSpPr/>
            <p:nvPr/>
          </p:nvSpPr>
          <p:spPr>
            <a:xfrm>
              <a:off x="6065640" y="237312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27"/>
            <p:cNvSpPr/>
            <p:nvPr/>
          </p:nvSpPr>
          <p:spPr>
            <a:xfrm>
              <a:off x="4991400" y="214848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8"/>
            <p:cNvSpPr/>
            <p:nvPr/>
          </p:nvSpPr>
          <p:spPr>
            <a:xfrm>
              <a:off x="4686480" y="194004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9"/>
            <p:cNvSpPr/>
            <p:nvPr/>
          </p:nvSpPr>
          <p:spPr>
            <a:xfrm>
              <a:off x="5003280" y="182808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0"/>
            <p:cNvSpPr/>
            <p:nvPr/>
          </p:nvSpPr>
          <p:spPr>
            <a:xfrm>
              <a:off x="3398760" y="181944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1"/>
            <p:cNvSpPr/>
            <p:nvPr/>
          </p:nvSpPr>
          <p:spPr>
            <a:xfrm>
              <a:off x="1904040" y="2234520"/>
              <a:ext cx="1800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2"/>
            <p:cNvSpPr/>
            <p:nvPr/>
          </p:nvSpPr>
          <p:spPr>
            <a:xfrm>
              <a:off x="1447200" y="23623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33"/>
            <p:cNvSpPr/>
            <p:nvPr/>
          </p:nvSpPr>
          <p:spPr>
            <a:xfrm>
              <a:off x="939600" y="24991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4"/>
            <p:cNvSpPr/>
            <p:nvPr/>
          </p:nvSpPr>
          <p:spPr>
            <a:xfrm>
              <a:off x="1111320" y="18543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35"/>
            <p:cNvSpPr/>
            <p:nvPr/>
          </p:nvSpPr>
          <p:spPr>
            <a:xfrm>
              <a:off x="2694960" y="183672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36"/>
            <p:cNvSpPr/>
            <p:nvPr/>
          </p:nvSpPr>
          <p:spPr>
            <a:xfrm>
              <a:off x="1960200" y="185976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7"/>
            <p:cNvSpPr/>
            <p:nvPr/>
          </p:nvSpPr>
          <p:spPr>
            <a:xfrm>
              <a:off x="7229520" y="224676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8"/>
            <p:cNvSpPr/>
            <p:nvPr/>
          </p:nvSpPr>
          <p:spPr>
            <a:xfrm>
              <a:off x="6085080" y="203508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9"/>
            <p:cNvSpPr/>
            <p:nvPr/>
          </p:nvSpPr>
          <p:spPr>
            <a:xfrm>
              <a:off x="5801400" y="21506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40"/>
            <p:cNvSpPr/>
            <p:nvPr/>
          </p:nvSpPr>
          <p:spPr>
            <a:xfrm>
              <a:off x="555444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1"/>
            <p:cNvSpPr/>
            <p:nvPr/>
          </p:nvSpPr>
          <p:spPr>
            <a:xfrm>
              <a:off x="4193280" y="1838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2"/>
            <p:cNvSpPr/>
            <p:nvPr/>
          </p:nvSpPr>
          <p:spPr>
            <a:xfrm>
              <a:off x="4845960" y="2530440"/>
              <a:ext cx="194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3"/>
            <p:cNvSpPr/>
            <p:nvPr/>
          </p:nvSpPr>
          <p:spPr>
            <a:xfrm>
              <a:off x="4647960" y="22644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44"/>
            <p:cNvSpPr/>
            <p:nvPr/>
          </p:nvSpPr>
          <p:spPr>
            <a:xfrm>
              <a:off x="4376880" y="2027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45"/>
            <p:cNvSpPr/>
            <p:nvPr/>
          </p:nvSpPr>
          <p:spPr>
            <a:xfrm>
              <a:off x="3888360" y="19263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46"/>
            <p:cNvSpPr/>
            <p:nvPr/>
          </p:nvSpPr>
          <p:spPr>
            <a:xfrm>
              <a:off x="3550680" y="2032920"/>
              <a:ext cx="194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47"/>
            <p:cNvSpPr/>
            <p:nvPr/>
          </p:nvSpPr>
          <p:spPr>
            <a:xfrm>
              <a:off x="3281400" y="237312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48"/>
            <p:cNvSpPr/>
            <p:nvPr/>
          </p:nvSpPr>
          <p:spPr>
            <a:xfrm>
              <a:off x="3165840" y="213984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9"/>
            <p:cNvSpPr/>
            <p:nvPr/>
          </p:nvSpPr>
          <p:spPr>
            <a:xfrm>
              <a:off x="3041640" y="192096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0"/>
            <p:cNvSpPr/>
            <p:nvPr/>
          </p:nvSpPr>
          <p:spPr>
            <a:xfrm>
              <a:off x="2770560" y="225540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1"/>
            <p:cNvSpPr/>
            <p:nvPr/>
          </p:nvSpPr>
          <p:spPr>
            <a:xfrm>
              <a:off x="2413440" y="23500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52"/>
            <p:cNvSpPr/>
            <p:nvPr/>
          </p:nvSpPr>
          <p:spPr>
            <a:xfrm>
              <a:off x="2675520" y="20228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2264400" y="21384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54"/>
            <p:cNvSpPr/>
            <p:nvPr/>
          </p:nvSpPr>
          <p:spPr>
            <a:xfrm>
              <a:off x="229932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5"/>
            <p:cNvSpPr/>
            <p:nvPr/>
          </p:nvSpPr>
          <p:spPr>
            <a:xfrm>
              <a:off x="1893240" y="204012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6"/>
            <p:cNvSpPr/>
            <p:nvPr/>
          </p:nvSpPr>
          <p:spPr>
            <a:xfrm>
              <a:off x="1534680" y="19612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57"/>
            <p:cNvSpPr/>
            <p:nvPr/>
          </p:nvSpPr>
          <p:spPr>
            <a:xfrm>
              <a:off x="1531440" y="212760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58"/>
            <p:cNvSpPr/>
            <p:nvPr/>
          </p:nvSpPr>
          <p:spPr>
            <a:xfrm>
              <a:off x="1190160" y="20469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59"/>
            <p:cNvSpPr/>
            <p:nvPr/>
          </p:nvSpPr>
          <p:spPr>
            <a:xfrm>
              <a:off x="718920" y="21556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60"/>
            <p:cNvSpPr/>
            <p:nvPr/>
          </p:nvSpPr>
          <p:spPr>
            <a:xfrm>
              <a:off x="759600" y="19245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61"/>
            <p:cNvSpPr/>
            <p:nvPr/>
          </p:nvSpPr>
          <p:spPr>
            <a:xfrm>
              <a:off x="208440" y="22960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62"/>
            <p:cNvSpPr/>
            <p:nvPr/>
          </p:nvSpPr>
          <p:spPr>
            <a:xfrm>
              <a:off x="1501560" y="175104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63"/>
            <p:cNvSpPr/>
            <p:nvPr/>
          </p:nvSpPr>
          <p:spPr>
            <a:xfrm>
              <a:off x="2346480" y="177228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64"/>
            <p:cNvSpPr/>
            <p:nvPr/>
          </p:nvSpPr>
          <p:spPr>
            <a:xfrm>
              <a:off x="3043440" y="176328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65"/>
            <p:cNvSpPr/>
            <p:nvPr/>
          </p:nvSpPr>
          <p:spPr>
            <a:xfrm>
              <a:off x="3702960" y="175104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6"/>
            <p:cNvSpPr/>
            <p:nvPr/>
          </p:nvSpPr>
          <p:spPr>
            <a:xfrm>
              <a:off x="4060440" y="164628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7"/>
            <p:cNvSpPr/>
            <p:nvPr/>
          </p:nvSpPr>
          <p:spPr>
            <a:xfrm>
              <a:off x="4551840" y="1740600"/>
              <a:ext cx="18000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68"/>
            <p:cNvSpPr/>
            <p:nvPr/>
          </p:nvSpPr>
          <p:spPr>
            <a:xfrm>
              <a:off x="2917440" y="248508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69"/>
            <p:cNvSpPr/>
            <p:nvPr/>
          </p:nvSpPr>
          <p:spPr>
            <a:xfrm>
              <a:off x="4475160" y="26532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70"/>
            <p:cNvSpPr/>
            <p:nvPr/>
          </p:nvSpPr>
          <p:spPr>
            <a:xfrm>
              <a:off x="6333480" y="225180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1"/>
            <p:cNvSpPr/>
            <p:nvPr/>
          </p:nvSpPr>
          <p:spPr>
            <a:xfrm>
              <a:off x="6634440" y="212076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72"/>
            <p:cNvSpPr/>
            <p:nvPr/>
          </p:nvSpPr>
          <p:spPr>
            <a:xfrm>
              <a:off x="3734280" y="158832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3"/>
            <p:cNvSpPr/>
            <p:nvPr/>
          </p:nvSpPr>
          <p:spPr>
            <a:xfrm>
              <a:off x="2212200" y="15883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74"/>
            <p:cNvSpPr/>
            <p:nvPr/>
          </p:nvSpPr>
          <p:spPr>
            <a:xfrm>
              <a:off x="2574360" y="15199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75"/>
            <p:cNvSpPr/>
            <p:nvPr/>
          </p:nvSpPr>
          <p:spPr>
            <a:xfrm>
              <a:off x="2887560" y="144144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76"/>
            <p:cNvSpPr/>
            <p:nvPr/>
          </p:nvSpPr>
          <p:spPr>
            <a:xfrm>
              <a:off x="3356640" y="1519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77"/>
            <p:cNvSpPr/>
            <p:nvPr/>
          </p:nvSpPr>
          <p:spPr>
            <a:xfrm>
              <a:off x="3010320" y="161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8"/>
            <p:cNvSpPr/>
            <p:nvPr/>
          </p:nvSpPr>
          <p:spPr>
            <a:xfrm>
              <a:off x="3348000" y="1674000"/>
              <a:ext cx="16596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9"/>
            <p:cNvSpPr/>
            <p:nvPr/>
          </p:nvSpPr>
          <p:spPr>
            <a:xfrm>
              <a:off x="2696760" y="168264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0"/>
            <p:cNvSpPr/>
            <p:nvPr/>
          </p:nvSpPr>
          <p:spPr>
            <a:xfrm>
              <a:off x="1883160" y="166680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81"/>
            <p:cNvSpPr/>
            <p:nvPr/>
          </p:nvSpPr>
          <p:spPr>
            <a:xfrm>
              <a:off x="3470040" y="705096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2"/>
            <p:cNvSpPr/>
            <p:nvPr/>
          </p:nvSpPr>
          <p:spPr>
            <a:xfrm>
              <a:off x="4305240" y="6427440"/>
              <a:ext cx="34272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83"/>
            <p:cNvSpPr/>
            <p:nvPr/>
          </p:nvSpPr>
          <p:spPr>
            <a:xfrm>
              <a:off x="5666760" y="54644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4"/>
            <p:cNvSpPr/>
            <p:nvPr/>
          </p:nvSpPr>
          <p:spPr>
            <a:xfrm>
              <a:off x="6212880" y="5042160"/>
              <a:ext cx="27432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85"/>
            <p:cNvSpPr/>
            <p:nvPr/>
          </p:nvSpPr>
          <p:spPr>
            <a:xfrm>
              <a:off x="5061240" y="591264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6"/>
            <p:cNvSpPr/>
            <p:nvPr/>
          </p:nvSpPr>
          <p:spPr>
            <a:xfrm>
              <a:off x="6770880" y="4651560"/>
              <a:ext cx="26424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7"/>
            <p:cNvSpPr/>
            <p:nvPr/>
          </p:nvSpPr>
          <p:spPr>
            <a:xfrm>
              <a:off x="7157880" y="433260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88"/>
            <p:cNvSpPr/>
            <p:nvPr/>
          </p:nvSpPr>
          <p:spPr>
            <a:xfrm>
              <a:off x="7572600" y="405072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89"/>
            <p:cNvSpPr/>
            <p:nvPr/>
          </p:nvSpPr>
          <p:spPr>
            <a:xfrm>
              <a:off x="8246520" y="35391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90"/>
            <p:cNvSpPr/>
            <p:nvPr/>
          </p:nvSpPr>
          <p:spPr>
            <a:xfrm>
              <a:off x="7932960" y="378468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91"/>
            <p:cNvSpPr/>
            <p:nvPr/>
          </p:nvSpPr>
          <p:spPr>
            <a:xfrm>
              <a:off x="8510400" y="33609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92"/>
            <p:cNvSpPr/>
            <p:nvPr/>
          </p:nvSpPr>
          <p:spPr>
            <a:xfrm>
              <a:off x="8766000" y="31626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93"/>
            <p:cNvSpPr/>
            <p:nvPr/>
          </p:nvSpPr>
          <p:spPr>
            <a:xfrm>
              <a:off x="9032040" y="297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94"/>
            <p:cNvSpPr/>
            <p:nvPr/>
          </p:nvSpPr>
          <p:spPr>
            <a:xfrm>
              <a:off x="9235080" y="28245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95"/>
            <p:cNvSpPr/>
            <p:nvPr/>
          </p:nvSpPr>
          <p:spPr>
            <a:xfrm>
              <a:off x="9446760" y="266184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96"/>
            <p:cNvSpPr/>
            <p:nvPr/>
          </p:nvSpPr>
          <p:spPr>
            <a:xfrm>
              <a:off x="5696640" y="7128000"/>
              <a:ext cx="3499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97"/>
            <p:cNvSpPr/>
            <p:nvPr/>
          </p:nvSpPr>
          <p:spPr>
            <a:xfrm>
              <a:off x="6389640" y="646596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98"/>
            <p:cNvSpPr/>
            <p:nvPr/>
          </p:nvSpPr>
          <p:spPr>
            <a:xfrm>
              <a:off x="8353080" y="6487200"/>
              <a:ext cx="35136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99"/>
            <p:cNvSpPr/>
            <p:nvPr/>
          </p:nvSpPr>
          <p:spPr>
            <a:xfrm>
              <a:off x="7859520" y="708948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00"/>
            <p:cNvSpPr/>
            <p:nvPr/>
          </p:nvSpPr>
          <p:spPr>
            <a:xfrm>
              <a:off x="6980760" y="59457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01"/>
            <p:cNvSpPr/>
            <p:nvPr/>
          </p:nvSpPr>
          <p:spPr>
            <a:xfrm>
              <a:off x="7460640" y="5499360"/>
              <a:ext cx="291960" cy="1663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02"/>
            <p:cNvSpPr/>
            <p:nvPr/>
          </p:nvSpPr>
          <p:spPr>
            <a:xfrm>
              <a:off x="8827560" y="5984280"/>
              <a:ext cx="291960" cy="163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03"/>
            <p:cNvSpPr/>
            <p:nvPr/>
          </p:nvSpPr>
          <p:spPr>
            <a:xfrm>
              <a:off x="7967880" y="5029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04"/>
            <p:cNvSpPr/>
            <p:nvPr/>
          </p:nvSpPr>
          <p:spPr>
            <a:xfrm>
              <a:off x="9263160" y="5455440"/>
              <a:ext cx="293400" cy="1627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05"/>
            <p:cNvSpPr/>
            <p:nvPr/>
          </p:nvSpPr>
          <p:spPr>
            <a:xfrm>
              <a:off x="9619920" y="5040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06"/>
            <p:cNvSpPr/>
            <p:nvPr/>
          </p:nvSpPr>
          <p:spPr>
            <a:xfrm>
              <a:off x="8351280" y="4679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7"/>
            <p:cNvSpPr/>
            <p:nvPr/>
          </p:nvSpPr>
          <p:spPr>
            <a:xfrm>
              <a:off x="8690760" y="435528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8"/>
            <p:cNvSpPr/>
            <p:nvPr/>
          </p:nvSpPr>
          <p:spPr>
            <a:xfrm>
              <a:off x="9527400" y="359208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09"/>
            <p:cNvSpPr/>
            <p:nvPr/>
          </p:nvSpPr>
          <p:spPr>
            <a:xfrm>
              <a:off x="9032040" y="4050720"/>
              <a:ext cx="24480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10"/>
            <p:cNvSpPr/>
            <p:nvPr/>
          </p:nvSpPr>
          <p:spPr>
            <a:xfrm>
              <a:off x="9306720" y="3809160"/>
              <a:ext cx="234360" cy="109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11"/>
            <p:cNvSpPr/>
            <p:nvPr/>
          </p:nvSpPr>
          <p:spPr>
            <a:xfrm>
              <a:off x="9767160" y="33836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12"/>
            <p:cNvSpPr/>
            <p:nvPr/>
          </p:nvSpPr>
          <p:spPr>
            <a:xfrm>
              <a:off x="9956160" y="316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13"/>
            <p:cNvSpPr/>
            <p:nvPr/>
          </p:nvSpPr>
          <p:spPr>
            <a:xfrm>
              <a:off x="9910440" y="469188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14"/>
            <p:cNvSpPr/>
            <p:nvPr/>
          </p:nvSpPr>
          <p:spPr>
            <a:xfrm>
              <a:off x="-113760" y="50158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5"/>
            <p:cNvSpPr/>
            <p:nvPr/>
          </p:nvSpPr>
          <p:spPr>
            <a:xfrm>
              <a:off x="3600" y="433620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16"/>
            <p:cNvSpPr/>
            <p:nvPr/>
          </p:nvSpPr>
          <p:spPr>
            <a:xfrm>
              <a:off x="-15480" y="251280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17"/>
            <p:cNvSpPr/>
            <p:nvPr/>
          </p:nvSpPr>
          <p:spPr>
            <a:xfrm>
              <a:off x="9842040" y="7021440"/>
              <a:ext cx="3517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520E4E5-B200-4275-86D2-6C14343B27B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15560" y="1446120"/>
            <a:ext cx="10307880" cy="6204600"/>
            <a:chOff x="-115560" y="1446120"/>
            <a:chExt cx="10307880" cy="62046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5920" y="181152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43560" y="197568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8600" y="209988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77040" y="2248920"/>
              <a:ext cx="433152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90360" y="2448360"/>
              <a:ext cx="484776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15560" y="2669040"/>
              <a:ext cx="53553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64160" y="2967480"/>
              <a:ext cx="595368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74960" y="3263040"/>
              <a:ext cx="656100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90520" y="3596040"/>
              <a:ext cx="736632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76200" y="400896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549360" y="4582800"/>
              <a:ext cx="91000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4040" y="5045040"/>
              <a:ext cx="945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306520" y="512820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689720" y="5377320"/>
              <a:ext cx="625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7090560" y="6133320"/>
              <a:ext cx="3638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9393480" y="728964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56680" y="4133520"/>
              <a:ext cx="105811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47760" y="5946480"/>
              <a:ext cx="7248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90520" y="634608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94040" y="686736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79800" y="5640840"/>
              <a:ext cx="9585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202680" y="3729600"/>
              <a:ext cx="1053216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37880" y="3408480"/>
              <a:ext cx="1007352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652680" y="3156840"/>
              <a:ext cx="95817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481760" y="2772000"/>
              <a:ext cx="8708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840680" y="258696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2175480" y="2413440"/>
              <a:ext cx="797508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600640" y="228672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885400" y="2134800"/>
              <a:ext cx="72698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1067400" y="2950920"/>
              <a:ext cx="910764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58560" y="5211000"/>
              <a:ext cx="107632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305640" y="4664160"/>
              <a:ext cx="10685520" cy="82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2120" bIns="-421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293120" y="588240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411480" y="53834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76480" y="6395040"/>
              <a:ext cx="342720" cy="185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633120" y="46605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2138400" y="538704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949120" y="50040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310760" y="497232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640440" y="4651920"/>
              <a:ext cx="26244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049120" y="46274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4200480" y="43527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341160" y="40536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943080" y="377352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796640" y="4037400"/>
              <a:ext cx="2451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919400" y="332568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6510600" y="31399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6172920" y="332208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5360400" y="311508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733360" y="35460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5295600" y="3783960"/>
              <a:ext cx="232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744280" y="4296600"/>
              <a:ext cx="26208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3258360" y="35528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646000" y="38102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2082600" y="4048200"/>
              <a:ext cx="2343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2017800" y="358632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996920" y="31593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623680" y="334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3155400" y="31557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776760" y="333792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4254120" y="313092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820800" y="3560040"/>
              <a:ext cx="234000" cy="127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17360" y="379440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394640" y="335700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94160" y="314856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95840" y="33307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754200" y="406944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423080" y="381528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378800" y="43300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450320" y="353052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548080" y="297900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3055680" y="280224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421720" y="263952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911240" y="2795400"/>
              <a:ext cx="21492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384560" y="2961360"/>
              <a:ext cx="21636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517560" y="264996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650760" y="297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4102200" y="28054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695480" y="29545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408680" y="26499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864360" y="279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97080" y="26427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72880" y="297540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5050800" y="27954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5387040" y="26481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721120" y="2958120"/>
              <a:ext cx="2170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6041520" y="280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6387840" y="263952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7437960" y="26517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825240" y="29808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7149240" y="28180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241720" y="639684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235520" y="7029000"/>
              <a:ext cx="33408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899160" y="541152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555440" y="50212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5085720" y="46728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682600" y="4298400"/>
              <a:ext cx="262080" cy="163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3150000" y="5884200"/>
              <a:ext cx="2937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6144480" y="403236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963840" y="35283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6566400" y="378036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7306560" y="3325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7589880" y="314856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882560" y="297900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8155440" y="28090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8404200" y="2649960"/>
              <a:ext cx="223560" cy="88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8626320" y="250812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70968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74884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5199480" y="239436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514480" y="226476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5283360" y="205128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4273560" y="239796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4025160" y="213876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664440" y="22507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897360" y="2527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938960" y="249552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1067400" y="225072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532080" y="23803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71080" y="2023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940160" y="23925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7711200" y="2523960"/>
              <a:ext cx="1836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984720" y="237708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6064200" y="237708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989600" y="215280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685040" y="19443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5001480" y="183240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396960" y="182376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902240" y="2238480"/>
              <a:ext cx="1800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445400" y="236628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937800" y="250272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109520" y="185868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693520" y="184140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958400" y="186408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7228080" y="2250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6083640" y="2039400"/>
              <a:ext cx="19548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799600" y="21546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55300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4191480" y="1843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844520" y="2534040"/>
              <a:ext cx="194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646520" y="226836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4375440" y="2032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886920" y="19306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548880" y="2037240"/>
              <a:ext cx="194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3279600" y="23770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3164040" y="21441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3039840" y="19252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768760" y="2259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411640" y="235404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674080" y="20268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262600" y="21423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29752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891800" y="204444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532880" y="19656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529640" y="213192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188360" y="20512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717120" y="21600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757800" y="19288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206640" y="230004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500120" y="175536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345040" y="177660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3041640" y="176796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701520" y="175536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4058640" y="165060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550400" y="1745280"/>
              <a:ext cx="1800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915640" y="248904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473360" y="26568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6332040" y="22561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632640" y="212508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732840" y="159264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210400" y="159264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572560" y="152460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885760" y="14461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354840" y="152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3008520" y="1618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346200" y="1678680"/>
              <a:ext cx="16596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694960" y="168732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881360" y="167148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468600" y="705132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4303440" y="6428520"/>
              <a:ext cx="34272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665320" y="546588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6211440" y="5043960"/>
              <a:ext cx="27432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5059440" y="591408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769440" y="4654080"/>
              <a:ext cx="264240" cy="146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7156080" y="433512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7571160" y="405360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8244720" y="35424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931520" y="378756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8508960" y="33642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8764560" y="316584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9030600" y="298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9233640" y="28281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9445320" y="266544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694840" y="7128360"/>
              <a:ext cx="349920" cy="180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6387840" y="646704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8351640" y="6487920"/>
              <a:ext cx="35136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858080" y="708984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979320" y="59468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7459200" y="5500800"/>
              <a:ext cx="2919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825760" y="5985360"/>
              <a:ext cx="2919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966440" y="50317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9261720" y="5457240"/>
              <a:ext cx="29340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9618480" y="50425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8349840" y="4681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8689320" y="4357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9525960" y="35949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9030600" y="4053600"/>
              <a:ext cx="2448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9305280" y="38120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9765720" y="33865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954720" y="31730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9909000" y="46940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15560" y="50176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800" y="4338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7280" y="25167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9840600" y="7021800"/>
              <a:ext cx="35172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4B440D6-DF30-4455-A05C-9852112AB9D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4360" y="306000"/>
            <a:ext cx="906948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i="1" lang="de-DE" sz="4900" spc="-1" strike="noStrike">
                <a:solidFill>
                  <a:srgbClr val="66ff99"/>
                </a:solidFill>
                <a:latin typeface="Arial"/>
              </a:rPr>
              <a:t>Информация по результатам проведения оценки качества организации и осуществления бюджетного процесса в поселениях </a:t>
            </a:r>
            <a:r>
              <a:rPr b="0" i="1" lang="ru-RU" sz="4900" spc="-1" strike="noStrike">
                <a:solidFill>
                  <a:srgbClr val="66ff99"/>
                </a:solidFill>
                <a:latin typeface="Arial"/>
              </a:rPr>
              <a:t>Горьков</a:t>
            </a:r>
            <a:r>
              <a:rPr b="0" i="1" lang="de-DE" sz="4900" spc="-1" strike="noStrike">
                <a:solidFill>
                  <a:srgbClr val="66ff99"/>
                </a:solidFill>
                <a:latin typeface="Arial"/>
              </a:rPr>
              <a:t>ского муниципального района </a:t>
            </a:r>
            <a:br>
              <a:rPr sz="4900"/>
            </a:br>
            <a:r>
              <a:rPr b="0" i="1" lang="ru-RU" sz="4900" spc="-1" strike="noStrike">
                <a:solidFill>
                  <a:srgbClr val="66ff99"/>
                </a:solidFill>
                <a:latin typeface="Arial"/>
              </a:rPr>
              <a:t>на 1 июля 2024 год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орьков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ского муниципального района Омской области по состоянию 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на 01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июля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295280" y="1763640"/>
          <a:ext cx="7201080" cy="5184720"/>
        </p:xfrm>
        <a:graphic>
          <a:graphicData uri="http://schemas.openxmlformats.org/drawingml/2006/table">
            <a:tbl>
              <a:tblPr/>
              <a:tblGrid>
                <a:gridCol w="3600720"/>
                <a:gridCol w="2232000"/>
                <a:gridCol w="1368360"/>
              </a:tblGrid>
              <a:tr h="720720"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ельского по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нимаем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стыров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ребрян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ховск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авлодаровское 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овопокров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щинское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лексеевское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еоргиевское сельск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ктябрьское сельск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ежанск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раснополян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рьковское город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18920" y="250560"/>
            <a:ext cx="8450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3700" spc="-1" strike="noStrike">
                <a:solidFill>
                  <a:srgbClr val="000000"/>
                </a:solidFill>
                <a:latin typeface="Times New Roman"/>
              </a:rPr>
              <a:t>Справочная информац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4720" y="1115640"/>
            <a:ext cx="90727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проведена на основаниии месячного отчета об исполнении бюджетов посел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ьковс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кого муниципального района по состоянию на 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я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года, а также информации, представленной органами местного самоуправления посел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ьковс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кого муниципального района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осуществлена п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показа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979640" y="3708360"/>
          <a:ext cx="5581800" cy="3122640"/>
        </p:xfrm>
        <a:graphic>
          <a:graphicData uri="http://schemas.openxmlformats.org/drawingml/2006/table">
            <a:tbl>
              <a:tblPr/>
              <a:tblGrid>
                <a:gridCol w="2954160"/>
                <a:gridCol w="1229040"/>
                <a:gridCol w="1398600"/>
              </a:tblGrid>
              <a:tr h="998640"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чение, бал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я от максимально возможной оценки,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5116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о возможная к полу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072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я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5116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144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>User</dc:creator>
  <dc:description/>
  <dc:language>en-US</dc:language>
  <cp:lastModifiedBy>Пользователь Windows</cp:lastModifiedBy>
  <cp:lastPrinted>2018-10-17T08:09:21Z</cp:lastPrinted>
  <dcterms:modified xsi:type="dcterms:W3CDTF">2024-07-12T09:21:17Z</dcterms:modified>
  <cp:revision>101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